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AC8-7388-477F-BC01-6449D5A9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FEF-F57D-4437-B1EA-6F64943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6CC-2EB5-4F70-8B60-0FFE0DAC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CD9-F310-4A5C-A7B3-8EA994BD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F457-A224-45C5-B502-69D49D0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E04A-C023-416C-B015-2CF5DD97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EA51-4FA7-45C2-9BB0-C1069E51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9F7-8EBD-4D62-9BB3-E1F38F3E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F2E7-E674-420A-8284-04E419E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592-EE68-4281-B057-A4616810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51AD-C3DC-42FF-B7A3-2A5F2C5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A3D-B41D-4CEE-B2FC-630E413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15FD-2DE2-4F2A-808F-408F1A2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094C-ABDB-4D8D-9282-C6C8E11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B509-A4B7-4A84-BC50-EB73C7A9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E5C-CCF7-4976-BC1C-468E1E8E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D40-E853-47CD-A9E8-31F457A4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C6A-6B0B-4227-B8FF-929EAED3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77E-4ACF-4113-8ED4-05D70377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88E-9F2F-44CA-B6C1-9B49D49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694-AECF-4968-ACBF-552691F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2D-A9C3-4959-8D21-1FE1E4C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5C3-6B28-44B6-82EF-2C70C72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60F-ADD7-4822-8192-1FB743F3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8DF7-4BB4-4975-84FC-88EE84F2C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A6A1-22EC-4837-840A-9F886DED5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cbi.nlm.nih.gov/sites/entrez?Db=pubmed&amp;Cmd=Search&amp;Term=%22Sargent%20MA%22%5BAuthor%5D&amp;itool=EntrezSystem2.PEntrez.Pubmed.Pubmed_ResultsPanel.Pubmed_DiscoveryPanel.Pubmed_RVAbstractPlus" TargetMode="External"/><Relationship Id="rId2" Type="http://schemas.openxmlformats.org/officeDocument/2006/relationships/hyperlink" Target="javascript:AL_get(this,%20&apos;jour&apos;,%20&apos;Pediatr%20Radiol.&apos;);" TargetMode="External"/><Relationship Id="rId3" Type="http://schemas.openxmlformats.org/officeDocument/2006/relationships/hyperlink" Target="http://www.ncbi.nlm.nih.gov/sites/entrez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Инфекције уринарног тракта у деце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оф. Др </a:t>
            </a: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Ана Вуји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ИУТ су најчешће изазване бактеријама из цревне флоре изузимајући новорођенчад код којих чешће настају хематоге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Бактерије из цревне флоре доспевају асцедентним путем у УТ. У око 85 –90 % узрочник је Е. цоли. Протеус се релативно чешће налази код мушке деце, а Клебсиелла- Ентеробацтер код новорођенча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5-7% ИУТ узрочници су грам-позитивни микроорганизми, ентерокок и стафилокок, укључујући и коагулаза негативни стафилокок код девојчица у пуберте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У хоспиталним условима, нарочито након уролошких интервенција, изолују се Псеудомонас и Клебсиел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ИУТ су по правилу проузроковане једним узрочни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Дијагно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Анамн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глед 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иохемијско-лабораторијске анализ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Анамн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00"/>
                </a:solidFill>
                <a:latin typeface="Times New Roman"/>
              </a:rPr>
              <a:t>Анамнезом</a:t>
            </a:r>
            <a:r>
              <a:rPr b="0" lang="sr-CS" sz="3000" spc="-1" strike="noStrike">
                <a:solidFill>
                  <a:srgbClr val="ffff00"/>
                </a:solidFill>
                <a:latin typeface="Times New Roman"/>
              </a:rPr>
              <a:t> о акутно насталој болести треба документовати степен и трајање фебрилности, симптоме од стране УТ, скорашње болести, претходно коришћене антибиотике.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66ff"/>
                </a:solidFill>
                <a:latin typeface="Times New Roman"/>
              </a:rPr>
              <a:t>ЛА: симптоми од стране УТ: инконтиненција, неправилан млаз урина, учестало мокрење; раније доказан ВУР или епизоде неразјашњене фебрил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00"/>
                </a:solidFill>
                <a:latin typeface="Times New Roman"/>
              </a:rPr>
              <a:t>ПА: ВУР, ожиљна нефропатија и генитоуринарним ненормалностим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Симптом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линички симптоми ИУТ зависе од узраста, локализације инфекције, постојања аномалија УТ и других чинила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ворођенчад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лика септикемије: фебрилоност, повраћање, дијареја, одбијање оброка, иритабилнос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дојчад и деца у прве три године живот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фебрилност, дигестивна симптоматологија, слабије напредовање, плач при мокрењу, као и промена карактеристика урина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Симптом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тарија деца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АПН 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(фебрилност ≥ 38,5˚Ц, бол у леђима или абдомену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Циститис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(дизурија, фебрилност &lt; 38˚Ц, полакиурија, супрапубисни бол, појава ноћне енурезе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Ризик је повећан ако су присутни малнутриција и хронична дијаре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еглед де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еглед детет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суспектном ИУТ треба да обухвати све органске системе са нагласком на палпацију абдомена, мокраћне бешике и бубрега, затим преглед спољашњих гениталија, перианалног и лумбосакралног предел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Мерење крвног притис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Биохемијско-лабораторијске анализе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Преглед ур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Рутински преглед свежег узорка  урина омогућава да се постави вероватна дијагноза ИУТ и започне лечење у очекивању резултата бактериолошког прегледа у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Три најкориснија елемента за евалуацију могуће ИУТ су доказивање </a:t>
            </a: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нитрита, леукоцитне естеразе и пиуриј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озитиван тес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леукоцитном естеразом или нитритима, више од 5 Ле на видном пољу, налаз бактерија у узорку урина обојеног по граму са високом вероватноћом указује на ИУ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егативан тес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нитритима и леукоцитном естеразом или негативна микропсија за пиурију и бактеријурију искључују дијагнозу И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66ff"/>
                </a:solidFill>
                <a:latin typeface="Times New Roman"/>
              </a:rPr>
              <a:t>Бактериолошки преглед у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ефинитнивна дијагноза ИУТ потврђује се бактериолошким прегледом урина- </a:t>
            </a: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уринокултуром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тј налазом сигнификантне бактериурије- порастом одређеног броја бактерија у јединици волумена урина. Критеријум за сигнификантност зависи од начина узимања узорка урина за прегле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нфекције уринарног тракта (ИУТ) су друге по учесталости бактеријске инфекције у деце и захватају 1% дечје популациј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не су значајне у структури акутног морбидитета да укажу на постојећу абнормалност уринарног тракта (УТ) и могу да буду узрок ожиљне нефропатије која представља ризик за дугорочне секве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imes New Roman"/>
              </a:rPr>
              <a:t>Критеријуми за дијагнозу ИУТ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765000" y="1366920"/>
          <a:ext cx="7707600" cy="50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366920"/>
                    <a:ext cx="770760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Локализација инфек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тврђивање локализације ИУТ, тј. разликовање АПН од циститиса у пракси се врши на основу критеријума наведених у таб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3"/>
          <p:cNvGraphicFramePr/>
          <p:nvPr/>
        </p:nvGraphicFramePr>
        <p:xfrm>
          <a:off x="163440" y="453960"/>
          <a:ext cx="8859960" cy="65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453960"/>
                    <a:ext cx="885996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Лечење треба да се започне одмах по узимању узорка урина за бактериолошки преглед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Циљ лечења акутне ИУТ је ублажавање и нестанак тегоба, ерадикација инфекције и редукција ризика за трајно оштећење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Хоспитализација је индикован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новорођенчад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одојчади у 2. и 3. месецу и све фебрилне деце узраста до 2 годин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деце &gt; 2 године са компликованом И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оворођенчад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 ИУТ треба да се лече по важећем протоколу за терапију сепс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дојчад, деца узраста до 3 године и деца с компликованом ИУ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треба да добијају антибиотике парентерал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Иницијална терапија АП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арентерално: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цефалоспорини ИИИ генерације (цефтриаксон или цефотаксим) или гентамицин (алтернатива: тобрамицин или нетилмиц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ерорално: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цефалоспорини треће генерације (цефиксим, цефтибутен), друге (цефаклор, цефпрозил) или прве (цефалексин, цефадрокси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мпицилин, амоксицилин и котримоксазол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се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не препоручују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за иницијалну терапију због високог процента резистентних сојева Е. ц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мпицилин или амоксицилин/клавуланат могу да се комбинују са цефалоспориним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или аминогликозидима ако постоји оправдана сумња да је узрочник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Ентероцоцус 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(налаз грам- позитивних кока у седименту урина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лидиксинска и пипемидинска киселина и нитрофурантоин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 треб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да се користе у терапији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АПН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јер не постижу терапијске концентрације у крви и ткиву бубрег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Флуорохинолони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 треб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да се користе у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иницијалној терапији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а њихова примена може да буде индикована само на основу резултата антибиогра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Терапија АПН траје 7-14 да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10-14 дана лечење се препоручује код одојчади и деце са компликованом И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имптомска терапиј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АПН обухвата повећан унос течности ( за 50% већи од уобичајеног) и парацетамол као антипиретик/аналгет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Дг ИУТ није увек лака: она често изостане или је задоцнела код одојчади или мале деце код које симптоми могу бити минимални и често неспецифични. Ова група има навећи ризик за трајно оштећење бубрег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рза дијагноза и лечење ИУТ имају за циљ да се превенира или смањи акутни морбидитет и да се умањи ризик за настанак ожиљне нефропатије и њених дугорочних секв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Акутни цистити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Пер о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5-7 дана за млађу и 3-5 дана за старију децу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фалоспорини од И до ИИИ генерације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или нитрофурантоином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као лековима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првог избор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лидиксинска и пипемидинска киселин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су лекови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другог избор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отримоксазол и ампицилин/амоксицилин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су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мање подесни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због високог процента резистентних сојева Е. цоли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офилакс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По излечењу ИУТ треба дати медикаментну профилаксу најмање до завршетка испитивањ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За профилаксу су погодни </a:t>
            </a: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цефалоспорини И и ИИ генерације (за одојчад), нитрофурантоин, амоксицилин/клавуланат и котримоксазол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оцена ризик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Чиниоци ризика за ожиљну нефропатију јесу: млађи узраст (нарочито прва година живота), мушки пол, закаснела антимикробна терапија, рецидиви пијелонефритиса, ВУР са дилатацијом, ВУР у породици, опструкционе аномалије, хипоплазија или дисплазија бубрега, нон- Е. цоли узрочник инфекциј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сле излечења прве доказане ИУТ сва деца треба да буду испитана ради откривања ненормалности У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поруке кроз смернице за испитививање нису уједначене и међуњима постоје значајне разлике, нарочито у погледу индикација за микционуцистоуретерографију (МЦУГ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55440" y="1023840"/>
          <a:ext cx="904104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023840"/>
                    <a:ext cx="904104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66ff"/>
                </a:solidFill>
                <a:latin typeface="Times New Roman"/>
              </a:rPr>
              <a:t>Превенција и лечење рецидива ИУ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66ff"/>
                </a:solidFill>
                <a:latin typeface="Times New Roman"/>
              </a:rPr>
              <a:t>За превенцију рецидива препоручује се: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овећан унос течности ради повећања диурез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Редовно мокрењ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отпуно пражњење бешике уз мокрење у “два акта”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евенција и лечење констипациј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Одржавање хигијене перинеум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Лечење цревне паразитоз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Лацтобациллус ацидопхилу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Медикаментна профилакса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66ff"/>
                </a:solidFill>
                <a:latin typeface="Times New Roman"/>
              </a:rPr>
              <a:t>Антибиотска профилакса се препоручу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о излечењу прве ИУТ, до МЦУГ код деце узраста до 2 године и код деце узраста до 5 година са компликованом ИУ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деце са ВУР-ом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пацијената са ожиљком на сцинтиграфији и онда када ВУР није доказ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деце са фебрилним рецидивима (≥ 3/12 месеци) и онда када је УТ норма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За профилаксу се користе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цефалоспорини И и ИИ генерациј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амоксицилин/клавулана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тримоксазо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нитрофурантоин, налидиксинска и пипемидинска кисели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 потеби и флуорохиноло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ада нема довољно чврдстих доказа о ефикасности препарата бруснице, они могу да се користе за профилаксу ИУТ с обзиром да су нешкодљив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езикоуретерални рефлукс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и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рефлуксна нефропат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ВУ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Епидемиологиј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До пубертета, дијагноза се постави приближно у 1 % дечака и 3-5 % девојчиц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66ff"/>
                </a:solidFill>
                <a:latin typeface="Times New Roman"/>
              </a:rPr>
              <a:t>Епидемиолог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валенца ВУР-а у општој популацији деце се процењује на 0,4 до 1,8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валенца ВУР-а у деце са ИУТ износи око 31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Саргент М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хат ис тхе нормал преваленце оф ВУР?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Педиатр Радиол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000 Сеп; 30(9):587-93.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хттп://www.нцби.нлм.них.гов/ситес/ентре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приступ сајту 12.04.2008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VUR može biti primaran i sekundar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имарни ВУР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има тенденцију да се са узрастом детета губи, јер за то време интравезикални део уретера повећава своју дужину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.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екундарни ВУР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е јавља често удружен с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ектопичним уретерима или дупликацијама уретер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себно треба указати на појаву ВУР-а у болесника с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урогеном дисфункцијом мокраћне бешике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зависности од тога у којој мери приликом МУЦГ контраст испуњава уретер и пелвикаликсни систем, као и од величине дилатације овог систем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се конвенционално градира у В степен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ff"/>
                </a:solidFill>
                <a:latin typeface="Times New Roman"/>
              </a:rPr>
              <a:t>ВЕЗИКОУРЕТЕРАЛНИ РЕЛУК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Нормалaн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буbрег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И степeн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ИI степe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уретeр и мокра</a:t>
            </a:r>
            <a:r>
              <a:rPr b="0" lang="en-GB" sz="2400" spc="-1" strike="noStrike">
                <a:solidFill>
                  <a:srgbClr val="ffffff"/>
                </a:solidFill>
                <a:latin typeface="Lucida Grande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на беш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68360" y="443700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Благa диlaтaцiјa        Умерeнa dilatacija уretera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  Дi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lat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uretera i каrлice              зaraвљенe </a:t>
            </a:r>
            <a:r>
              <a:rPr b="0" lang="en-GB" sz="2400" spc="-1" strike="noStrike">
                <a:solidFill>
                  <a:srgbClr val="ffffff"/>
                </a:solidFill>
                <a:latin typeface="Lucida Grande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шиц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66ff"/>
                </a:solidFill>
                <a:latin typeface="Times New Roman"/>
              </a:rPr>
              <a:t>Клиничка слик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је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асимптоматска аномалиј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, поготову ако је И, ИИ и ИИИ степена има тенденцију да се изгуби и ово се дешава у више од 50% случајева, нарочито у млађем узраст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Склоност ка ожиљавању је, међутим, бнајвећа у првим годинама живота, тј. код одојч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оказано је да се  ожиљавање дешава само у првих 5-7 год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Новорођенчад и одојчад мушког пола чешће обољевају у првој години, а у свим другим узрастним групама женска деца су у већем ризику који је до седме године већи за 4 до 5 пу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УТ се налази код око 5 % деце узраста до 2 године са фебрилношћу непознате етиологије, а 2-3 пута чешће код женске де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Болесници са благим степеном ожиљавања, поготову ако немају протеинурију (или не већу од 500 мг/24х), са  нормалним с. креатинином, обично у каснијем животу немају компликациј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рефлуксна нефропати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Рефлуксна нефропатиј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(РН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Ожиљавање бубрега и редукција бубрежног паренхима се дијагностикује помоћу ИВП или/и ДМСА сцинтиграфиј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Промене на ИВП-у које су карактеристичне за РН је још 1960. год. описао Ј. Ходсо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анас је прихваћено да се степен ожиљавања бубрега дефинише по класификацији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J. Smell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постојање интрареналног рефлукса,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уринарна инфекциј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3366ff"/>
                </a:solidFill>
                <a:uFillTx/>
                <a:latin typeface="Times New Roman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66ff"/>
                </a:solidFill>
                <a:latin typeface="Times New Roman"/>
              </a:rPr>
              <a:t>ПРИРОДАН ТОК БОЛЕСТИ  </a:t>
            </a:r>
            <a:r>
              <a:rPr b="1" lang="sr-CS" sz="3600" spc="-1" strike="noStrike">
                <a:solidFill>
                  <a:srgbClr val="3366ff"/>
                </a:solidFill>
                <a:latin typeface="Times New Roman"/>
              </a:rPr>
              <a:t>УРН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3 фазе: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чиње  у  одојчета и малог детета. Долази до  иреверзибилног  оштећења паренхим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Може бити асимптоматска. Хипертензија и протеинурија нису запаже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3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Најчешће  се болесници јављају са израженом хипертензијом  или  бубрежном исуфицијенциј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И и ИИ степена, и највећи број ИИИ   степена треба лечити  конзерватив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  В  степена- хирушки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д ВУР-а  ИИИ  и ИВ  до сада  завршене студије не показују   значајне разлике у начину лечења.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Превен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Благовремено лечење уро-инфекција у одојчади и мале деце, при првој инфекциј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После лечења доказане инфекције  урадити потребна испитив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д  деце из породица  са ризиком саветује се  Ехо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сле прве инфекције уротракта у року од 12 месeци рецидiви се јављају u 30 %. Значaјан број ове децe има конгениталне аномалије УТ, најчешe везикоуретeрални рефлукс (ВУР) који се налaзи iзмеђу 40-50 % у нашој средин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Дефини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д ИУТ подразумева се присуство сигнификантне бактериурије у 1 мл урина или било који раст бактерија на култури добијеној супрапубичном пункцијом мокраћне беши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УТ је дефинисана налазом (порастом) сигнификантног броја једне врсте бактерија у урину код пацијента са инфламационом реакцијо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симптоматска бактериури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је сигнификантан налаз бактериурие у 2 узастопна узорка код деце без симптома запалења уринарног тракта.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Асимптоматска бактериурија је  чешћа у мушке одојчади, али се у предшколском и школском узрасту однос мења и налази се до 2 % у корист девојчи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3"/>
          <p:cNvGraphicFramePr/>
          <p:nvPr/>
        </p:nvGraphicFramePr>
        <p:xfrm>
          <a:off x="457200" y="685800"/>
          <a:ext cx="8353440" cy="59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3534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5-12-02T08:31:09Z</dcterms:modified>
  <cp:revision>34</cp:revision>
  <dc:subject/>
  <dc:title>No Slide Title</dc:title>
</cp:coreProperties>
</file>